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C97-D131-42CE-BCD2-69BE7F5C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7E8-AB89-4B14-AD17-2D135768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96E-F900-4EEB-89F9-98829264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A1B-E362-4144-86AE-74D4E47C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648-9A42-43A8-8923-A5F22A7C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1E1-6E8A-4819-A2D4-EA6D7BDC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C1E-BB37-48A2-BC41-34C7947D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4B1-6E5C-4545-9E36-E86F1573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FC2-71BD-48F6-B970-1CFA87D1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5CA-B8BA-431F-956B-A5D8A5E2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53A-0603-4CBF-BEFF-023115DC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DA8-9544-4637-8E49-95137EE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4347-6301-4A59-ACFC-49E91597C7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Monitorování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a kontrola projekt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g. Jan F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istopad/prosinec 2005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074-5883-4138-98AB-3CB75D9490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114264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ozdíl mezi kontrolami dle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l. 4 a čl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2438280"/>
          <a:ext cx="8763120" cy="3504960"/>
        </p:xfrm>
        <a:graphic>
          <a:graphicData uri="http://schemas.openxmlformats.org/drawingml/2006/table">
            <a:tbl>
              <a:tblPr/>
              <a:tblGrid>
                <a:gridCol w="4421160"/>
                <a:gridCol w="43419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2819160"/>
            <a:ext cx="4191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ěření účinnosti zavedených řídicích a kontrolních systémů, ověření výkazů výdajů na různých dotčených úrovních -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vádí  ŘO a jím pověřené subjek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před ukončením každé pomoci - min. 5% celkových způsobilých výdajů - z reprez. vzorku schválených ope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51920" y="289512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rola jednotlivých operací na místě  (metoda výběru vzork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ádí KP; případně Z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znamy o ověření jednotlivých operací na místě - provedené dílo, výsledky ověření a opatření přijatá v souvislosti s nedost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8D3-77D2-4663-A4AE-16733D8557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realizace projektu na místě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38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U je předem o kontrole informov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členové kontrolní skupiny mají písemné pověření pr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lasti kontrol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ěcn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durální (vedení dokumentace, dodržování podmínek smlouvy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ahová (plnění věcných výstupů projek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anční (čerpání gran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ktivit projektu (průběh realizace konkrétní aktivit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ýsledkem je Protokol 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D3B-38B2-4411-8293-B5AF185AB4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E4A-1CA2-489B-941C-3204A37DDB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dním z principů politiky hospodářské a sociální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zjišťování pokroku v realizaci projektů, shromažďování informací o projekt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ovnávání získaných informací s plánem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6A8-E257-4F21-A446-605EF43A98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tavná činnost probíhající během celého trvání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á se všech úrovní implementační struktury operačního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údaje zjištěné monitorováním se zaznamenávají do MSSF (sumarizace dat z nejnižší po nejvyšší úroveň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í se především prostřednictví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ch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videlných zpráv o průběhu realizace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 na míst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136-D72D-4BB2-89C1-EB954E77A4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052640"/>
            <a:ext cx="583236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innosti KU v rámci procesu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žádosti o finanční podporu z OP RLZ zvol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kát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které budou naplňován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třednictvím pravidelných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ovacích zprá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formovat KP o průběhu realizace projektu a naplňování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vešker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ovou dokumentac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 kontrolách na místě poskytnout všechny podklady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ající se realizace projektu kontrolním pracovníků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0A5-1C8E-460D-B91B-45C5A41F50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indiká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rozpočtu program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aktivitám a jejich přímým účastníkům (sledují se počty osob, instituc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ledk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přímým a okamžitým účinkům, které program přinesl (hledisko úspěšnosti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dopad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následkům programu (udržitelnost; míra efektů pomoci z dlouhodobého hledisk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45A-C362-47A8-A5D3-85099D02E8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skytujících služby nebo podporujících poskytování služeb (1.01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- klientů služeb (1.05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čátečního vzdělávání (1.05.31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v dalším vzdělávání (1.05.32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vědeckých a výzkumných pracovní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.12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rganizací (1.04.00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A8E-3949-4349-BCB7-E96014C3C0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836640"/>
            <a:ext cx="57610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l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počátečn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1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dalš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0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životního prostřed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49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informačních technologi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08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dukt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2.00 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9EA-262B-4530-9E48-1F9656FF9E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zprávy vypracovávané 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ují technické a finanční informace o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í umožňovat srovnání výsledků s pláne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sné termíny předkládání zpráv budou specifikovány v Rozhodnutí o poskytnutí dota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h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(k termínu podávání Žádosti o platb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ávěrečné (po ukončení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885-B780-4203-8BEC-25C9B49C6F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na mís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ěření projektu v místě jeho realiza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á se o veřejnosprávní kontrolu v souladu se zákonem č. 320/2001 Sb., o finanční kontrole a o kontroly dle čl. 4 a 10 Nařízení Komise (ES) č. 438/200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ád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lší orgány implementační struktury OP RLZ, případně NKÚ, EK, Evropský dvůr auditor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B98-5BA8-42B3-B5D0-30C0B7BE1C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Lenka Suchá</dc:creator>
  <dc:description/>
  <dc:language>en-US</dc:language>
  <cp:lastModifiedBy>prejzovaa</cp:lastModifiedBy>
  <dcterms:modified xsi:type="dcterms:W3CDTF">2005-12-19T13:47:07Z</dcterms:modified>
  <cp:revision>21</cp:revision>
  <dc:subject/>
  <dc:title>Monitorová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47907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